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438A-1EE0-4F6C-AC14-0EA8C301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0C6-9D5B-48E1-B64A-2681591C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BD67-A5CF-45F8-92B6-D88BE5DC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FAE6-4089-4D63-A3FB-C433A9D2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A591-5682-438D-84FA-AD17CAC6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2260-4C1B-43B6-87AF-5F1628BF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239C-F33C-45AB-8A5F-19BB7CE7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E243-C224-486D-AF43-55CB5671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6D16-3B80-4636-9781-C1ED5346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940F-41C0-4E30-92B8-1BDDBF68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70DF-EC33-4AA5-9022-6CAD54E5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10F7-C65F-48B2-BB38-8C1B4E5E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B8B2-4D5F-4F20-9343-8DF76408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DE26-B4BC-4B50-B0FF-80E1A794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EED6-F1EE-488F-8A49-32D24FC4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F418-2033-4F4B-8C7C-00F17333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876A-FDEA-4FF4-AB9C-BBC534B1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145F-492A-463B-9E92-656AFFDD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281-D145-49A2-8338-E9697EC7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1617-CCC7-43F5-AFF2-37DB2E1C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F87-C935-47ED-B91E-CF7E1F6E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5494-8EFF-489A-B38A-B606FF21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A225-160B-4251-AA0F-E42F7310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419-382A-4F90-838C-5AE2F7FB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6720" y="1160640"/>
            <a:ext cx="4384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9400" y="116064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0560" y="15825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90640" y="15825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06200" y="150984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41240" y="1052640"/>
            <a:ext cx="3204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4000" y="6237360"/>
            <a:ext cx="259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47640" y="6243480"/>
            <a:ext cx="453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956360" y="62434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8EC6-A6F7-437D-B794-F363D3124EDE}" type="slidenum"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461880" y="1692360"/>
            <a:ext cx="711360" cy="474480"/>
            <a:chOff x="461880" y="1692360"/>
            <a:chExt cx="711360" cy="474480"/>
          </a:xfrm>
        </p:grpSpPr>
        <p:sp>
          <p:nvSpPr>
            <p:cNvPr id="49" name=""/>
            <p:cNvSpPr/>
            <p:nvPr/>
          </p:nvSpPr>
          <p:spPr>
            <a:xfrm>
              <a:off x="461880" y="169236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44920" y="169236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85720" y="2114640"/>
            <a:ext cx="738360" cy="474480"/>
            <a:chOff x="585720" y="2114640"/>
            <a:chExt cx="738360" cy="474480"/>
          </a:xfrm>
        </p:grpSpPr>
        <p:sp>
          <p:nvSpPr>
            <p:cNvPr id="52" name=""/>
            <p:cNvSpPr/>
            <p:nvPr/>
          </p:nvSpPr>
          <p:spPr>
            <a:xfrm>
              <a:off x="585720" y="2114640"/>
              <a:ext cx="4219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54720" y="2114640"/>
              <a:ext cx="36936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71360" y="204156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6400" y="158436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87440" y="240624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62080" y="1196640"/>
            <a:ext cx="777240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1186920" y="4340160"/>
            <a:ext cx="77058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800" spc="-1" strike="noStrike">
                <a:solidFill>
                  <a:srgbClr val="1c1c1c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1c1c1c"/>
                </a:solidFill>
                <a:latin typeface="Arial"/>
                <a:ea typeface="Arial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5867280" y="6308640"/>
            <a:ext cx="21607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1c1c1c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8172000" y="62848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E009-937C-4066-96B5-5D3BFE6AFF4C}" type="slidenum">
              <a:rPr b="0" lang="hr-HR" sz="1400" spc="-1" strike="noStrike">
                <a:solidFill>
                  <a:srgbClr val="1c1c1c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8000" y="5950080"/>
            <a:ext cx="820800" cy="836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12960" y="5997600"/>
            <a:ext cx="429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Sveučilište u Zagreb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Fakultet elektrotehnike i računarst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Zavod za elektroničke sustave i obradbu informac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62080" y="1196640"/>
            <a:ext cx="7772400" cy="10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Arial"/>
              </a:rPr>
              <a:t>Primjer PowerPoint prezentacij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6920" y="2781000"/>
            <a:ext cx="770580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Imena članova projektnog ti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4AAC-9894-4C35-A81F-CA6185034D4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Zagreb, ožujak 200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Arial"/>
              </a:rPr>
              <a:t>Uvod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vdje treba navesti o čemu će se govoriti tijekom prezentaci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ratki opis problematike i važnosti za primj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 slaganju prezentacije pripaziti na broj dijapozitiva jer je prosječno trajanje prezentacije barem 1 dijapozitiv po minut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74CD-5082-460E-B91F-F688A49BF86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Zagreb, ožujak 200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Arial"/>
              </a:rPr>
              <a:t>Opis problema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bjasniti što je problem koji je rješavan u okviru projek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što je problem važa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ratki pregled primj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3ABE-B8F8-4FBD-8B38-BC69A27653B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Zagreb, ožujak 200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Arial"/>
              </a:rPr>
              <a:t>Pregled postojećih metoda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ratki pregled metoda za rješavanje danog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ratki pregled aktivno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vesti laboratorije i grupe u svije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8D07-9F07-41DC-9EE6-199494D0C22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Zagreb, ožujak 200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Arial"/>
              </a:rPr>
              <a:t>Opis rješenja problema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is metode (ili metoda) korištenih u ovom projek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skusija met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dnosti i mane u odnosu na druge met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5B6-EF03-44AD-B15F-FF86E94FA13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Zagreb, ožujak 200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Arial"/>
              </a:rPr>
              <a:t>Eksperimentalni rezultati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kaz dobivenih rezult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o je razvijen program, demonstrirati rad programa i dobivene izlazne podat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skutirati rezul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cjena kvalitete rezultata (npr. točnos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Što bi trebalo napraviti da rezultati budu još bolj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748-4444-435F-A9EC-7A09935E418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Zagreb, ožujak 200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Arial"/>
              </a:rPr>
              <a:t>Zaključak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noviti najvažnije što je izloženo u prezentaci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skutirati budući rad i moguća poboljš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2503-8396-4C88-A47C-594B9B602A1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Zagreb, ožujak 200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3T11:04:13Z</dcterms:created>
  <dc:creator/>
  <dc:description/>
  <dc:language>en-US</dc:language>
  <cp:lastModifiedBy>Tomislav Petkovic</cp:lastModifiedBy>
  <dcterms:modified xsi:type="dcterms:W3CDTF">2004-04-22T09:42:04Z</dcterms:modified>
  <cp:revision>17</cp:revision>
  <dc:subject>SPUS</dc:subject>
  <dc:title>Primjer prezentacije</dc:title>
</cp:coreProperties>
</file>